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4C2FEB-D783-4079-A2E9-731B25B03F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794BE-26BE-4A15-8918-3AC752DC5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89FD77-E902-42E3-B3C3-6065E7436F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FC7427-E19F-462A-9E5A-232FD3DAB7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8AB19-E68C-4319-B8C6-F2D3AEBCA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32295-3C6B-483C-A350-80AC36CB3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71EE5-3563-4D08-8AC8-74CA5791A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F4D2B-74F8-4396-A0AD-1DB01160D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2A1D5-B4A2-4F84-9E86-52AB2EEB1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CD60C-514B-40A7-A812-73667B43C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D71B4-68CE-40FB-8BD9-4E8AC8F5EE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E2096-A671-40C2-B2E7-3763EEADF5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8DF8E-7ED1-409B-A206-DB8DD59C1A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406080"/>
            <a:ext cx="8447040" cy="12207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e6600"/>
                </a:solidFill>
                <a:latin typeface="Arial"/>
              </a:rPr>
              <a:t>Anatomy of a Voice Thread</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1771200" y="1422360"/>
            <a:ext cx="6620040" cy="906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56680" y="295200"/>
            <a:ext cx="9666360" cy="13003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Nuts and Bolts</a:t>
            </a:r>
            <a:br>
              <a:rPr sz="4300"/>
            </a:br>
            <a:endParaRPr b="0" lang="en-US" sz="4300" spc="-1" strike="noStrike">
              <a:solidFill>
                <a:srgbClr val="000000"/>
              </a:solidFill>
              <a:latin typeface="Times New Roman"/>
            </a:endParaRPr>
          </a:p>
        </p:txBody>
      </p:sp>
      <p:sp>
        <p:nvSpPr>
          <p:cNvPr id="44"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444"/>
                </a:solidFill>
                <a:latin typeface="Arial"/>
              </a:rPr>
              <a:t>What type of files can I use?</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     </a:t>
            </a:r>
            <a:r>
              <a:rPr b="0" lang="en-US" sz="2700" spc="-1" strike="noStrike">
                <a:solidFill>
                  <a:srgbClr val="444444"/>
                </a:solidFill>
                <a:latin typeface="Arial"/>
              </a:rPr>
              <a:t>Images: jpeg, gif, bmp, png</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     </a:t>
            </a:r>
            <a:r>
              <a:rPr b="0" lang="en-US" sz="2700" spc="-1" strike="noStrike">
                <a:solidFill>
                  <a:srgbClr val="444444"/>
                </a:solidFill>
                <a:latin typeface="Arial"/>
              </a:rPr>
              <a:t>Doc Types: ppt, pps, pdf, doc, xls and varying video format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44444"/>
                </a:solidFill>
                <a:latin typeface="Arial"/>
              </a:rPr>
              <a:t>Tip: Since VoiceThreads can zoom in and out on images and documents for detail, we recommend your images be at least 1280x960 (which a 2mp or higher camera can produce).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56680" y="295200"/>
            <a:ext cx="9666360" cy="13003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Identities</a:t>
            </a:r>
            <a:br>
              <a:rPr sz="4300"/>
            </a:br>
            <a:endParaRPr b="0" lang="en-US" sz="4300" spc="-1" strike="noStrike">
              <a:solidFill>
                <a:srgbClr val="000000"/>
              </a:solidFill>
              <a:latin typeface="Times New Roman"/>
            </a:endParaRPr>
          </a:p>
        </p:txBody>
      </p:sp>
      <p:sp>
        <p:nvSpPr>
          <p:cNvPr id="46"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44444"/>
                </a:solidFill>
                <a:latin typeface="Arial"/>
              </a:rPr>
              <a:t>Think of an identity as your VoiceThread personality. Each time you leave a voice or text comment, your VoiceThread will attach your identity to the commen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 </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44444"/>
                </a:solidFill>
                <a:latin typeface="Arial"/>
              </a:rPr>
              <a:t>  </a:t>
            </a:r>
            <a:endParaRPr b="0" lang="en-US" sz="2700" spc="-1" strike="noStrike">
              <a:solidFill>
                <a:srgbClr val="000000"/>
              </a:solidFill>
              <a:latin typeface="Times New Roman"/>
            </a:endParaRPr>
          </a:p>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Quick Tutorial on how to make an Identity</a:t>
            </a:r>
            <a:r>
              <a:rPr b="1" lang="en-US" sz="2700" spc="-1" strike="noStrike">
                <a:solidFill>
                  <a:srgbClr val="444444"/>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56680" y="295200"/>
            <a:ext cx="9666360" cy="13003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Do I need a microphone?</a:t>
            </a:r>
            <a:br>
              <a:rPr sz="4300"/>
            </a:br>
            <a:endParaRPr b="0" lang="en-US" sz="4300" spc="-1" strike="noStrike">
              <a:solidFill>
                <a:srgbClr val="000000"/>
              </a:solidFill>
              <a:latin typeface="Times New Roman"/>
            </a:endParaRPr>
          </a:p>
        </p:txBody>
      </p:sp>
      <p:sp>
        <p:nvSpPr>
          <p:cNvPr id="48" name="PlaceHolder 2"/>
          <p:cNvSpPr>
            <a:spLocks noGrp="1"/>
          </p:cNvSpPr>
          <p:nvPr>
            <p:ph/>
          </p:nvPr>
        </p:nvSpPr>
        <p:spPr>
          <a:xfrm>
            <a:off x="247320" y="812880"/>
            <a:ext cx="9666360" cy="54943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44444"/>
                </a:solidFill>
                <a:latin typeface="Arial"/>
              </a:rPr>
              <a:t>Yes, and no. There is no substitute for the compassion, emotion, and expressiveness of the human voice. Sometimes first time users might not yet have a microphone. You can easily leave text comments in place of speaking. To leave a voice comment, while viewing a VoiceThread, select the "record" button. Likewise, to leave a text comment, select the "type" butto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56680" y="295200"/>
            <a:ext cx="9666360" cy="13003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How do I delete a VoiceThread?</a:t>
            </a:r>
            <a:br>
              <a:rPr sz="4300"/>
            </a:br>
            <a:endParaRPr b="0" lang="en-US" sz="4300" spc="-1" strike="noStrike">
              <a:solidFill>
                <a:srgbClr val="000000"/>
              </a:solidFill>
              <a:latin typeface="Times New Roman"/>
            </a:endParaRPr>
          </a:p>
        </p:txBody>
      </p:sp>
      <p:sp>
        <p:nvSpPr>
          <p:cNvPr id="50"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44444"/>
                </a:solidFill>
                <a:latin typeface="Arial"/>
              </a:rPr>
              <a:t>To delete a VoiceThread you have created, simply go to your MyVoice page, click on the gear menu of the VoiceThread you want to delete, then click the 'Delete' butto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56680" y="295200"/>
            <a:ext cx="9666360" cy="13003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How do I edit a VoiceThread?</a:t>
            </a:r>
            <a:br>
              <a:rPr sz="4300"/>
            </a:br>
            <a:endParaRPr b="0" lang="en-US" sz="4300" spc="-1" strike="noStrike">
              <a:solidFill>
                <a:srgbClr val="000000"/>
              </a:solidFill>
              <a:latin typeface="Times New Roman"/>
            </a:endParaRPr>
          </a:p>
        </p:txBody>
      </p:sp>
      <p:sp>
        <p:nvSpPr>
          <p:cNvPr id="52" name="PlaceHolder 2"/>
          <p:cNvSpPr>
            <a:spLocks noGrp="1"/>
          </p:cNvSpPr>
          <p:nvPr>
            <p:ph/>
          </p:nvPr>
        </p:nvSpPr>
        <p:spPr>
          <a:xfrm>
            <a:off x="146160" y="1219320"/>
            <a:ext cx="9666000" cy="54943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44444"/>
                </a:solidFill>
                <a:latin typeface="Arial"/>
              </a:rPr>
              <a:t>You can get into editing mode in one of two ways. When on your MyVoice page, simply click on the circular gear on the bottom right of each of the VoiceThreads. This will show the option to 'Edit' if you are an editor of that VoiceThread.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44444"/>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44444"/>
                </a:solidFill>
                <a:latin typeface="Arial"/>
              </a:rPr>
              <a:t>The other place is when viewing a VoiceThread, the same circular gear icon is on the top to the left of the title. If you are an editor, you should once again see the 'Edit' option. This will take you into the Create/Editing mode where you can add, delete and rearrange pages, change options, embed, comment and share your VoiceThrea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146160" y="914400"/>
            <a:ext cx="9666000" cy="54943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44444"/>
                </a:solidFill>
                <a:latin typeface="Arial"/>
              </a:rPr>
              <a:t>The process of sharing is very easy. There are several ways to share a VoiceThread, the most common is wherever you see the word 'Share' you can click it to open up your list of friends and decide who to send invitations to (Free accounts can send 50 per day, while </a:t>
            </a:r>
            <a:r>
              <a:rPr b="0" lang="en-US" sz="2700" spc="-1" strike="noStrike" u="sng">
                <a:solidFill>
                  <a:srgbClr val="ccccff"/>
                </a:solidFill>
                <a:uFillTx/>
                <a:latin typeface="Arial"/>
              </a:rPr>
              <a:t>VoiceThread Pro</a:t>
            </a:r>
            <a:r>
              <a:rPr b="1" lang="en-US" sz="2700" spc="-1" strike="noStrike">
                <a:solidFill>
                  <a:srgbClr val="444444"/>
                </a:solidFill>
                <a:latin typeface="Arial"/>
              </a:rPr>
              <a:t> accounts can send 500). If someone is not on your friends list yet, it's easy to add them, all you need is their email. Also, if a VoiceThread has been made public by its owner, like all those in our browse section, you can simply copy and paste the URL website address into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54" name="PlaceHolder 2"/>
          <p:cNvSpPr>
            <a:spLocks noGrp="1"/>
          </p:cNvSpPr>
          <p:nvPr>
            <p:ph type="title"/>
          </p:nvPr>
        </p:nvSpPr>
        <p:spPr>
          <a:xfrm>
            <a:off x="256680" y="295200"/>
            <a:ext cx="9666360" cy="13003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How do I share a VoiceThread?</a:t>
            </a:r>
            <a:br>
              <a:rPr sz="4300"/>
            </a:br>
            <a:endParaRPr b="0" lang="en-US" sz="4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47320" y="101520"/>
            <a:ext cx="9666360" cy="13003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Are VoiceThreads secure?</a:t>
            </a:r>
            <a:br>
              <a:rPr sz="4300"/>
            </a:br>
            <a:endParaRPr b="0" lang="en-US" sz="4300" spc="-1" strike="noStrike">
              <a:solidFill>
                <a:srgbClr val="000000"/>
              </a:solidFill>
              <a:latin typeface="Times New Roman"/>
            </a:endParaRPr>
          </a:p>
        </p:txBody>
      </p:sp>
      <p:sp>
        <p:nvSpPr>
          <p:cNvPr id="56" name="PlaceHolder 2"/>
          <p:cNvSpPr>
            <a:spLocks noGrp="1"/>
          </p:cNvSpPr>
          <p:nvPr>
            <p:ph/>
          </p:nvPr>
        </p:nvSpPr>
        <p:spPr>
          <a:xfrm>
            <a:off x="247320" y="507600"/>
            <a:ext cx="9666360" cy="78771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44444"/>
                </a:solidFill>
                <a:latin typeface="Arial"/>
              </a:rPr>
              <a:t>Every VoiceThread begins its life as private as a piece of paper inside a safe, completely secure. You must choose whom you wish to share it with - either 1 person or 10 people or the whole world.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44444"/>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44444"/>
                </a:solidFill>
                <a:latin typeface="Arial"/>
              </a:rPr>
              <a:t>You can choose to show a VoiceThread to the whole world in a couple of different ways. It can be public, but not allow any new comments, or you can make it public, and allow new comments.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44444"/>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44444"/>
                </a:solidFill>
                <a:latin typeface="Arial"/>
              </a:rPr>
              <a:t>You can also choose to turn on comment moderation, which means that all new comments are only visible to you and the person who made them, until you specifically choose to 'show' them. You can also choose whether you want a public VoiceThread listed in our browse section (the default is 'Yes'), but if you choose 'No' then only people with the exact URL will see i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444444"/>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b62af"/>
                </a:solidFill>
                <a:latin typeface="Arial"/>
              </a:rPr>
              <a:t>Tutorials</a:t>
            </a:r>
            <a:endParaRPr b="0" lang="en-US" sz="4300" spc="-1" strike="noStrike">
              <a:solidFill>
                <a:srgbClr val="000000"/>
              </a:solidFill>
              <a:latin typeface="Times New Roman"/>
            </a:endParaRPr>
          </a:p>
        </p:txBody>
      </p:sp>
      <p:sp>
        <p:nvSpPr>
          <p:cNvPr id="58" name="PlaceHolder 2"/>
          <p:cNvSpPr>
            <a:spLocks noGrp="1"/>
          </p:cNvSpPr>
          <p:nvPr>
            <p:ph/>
          </p:nvPr>
        </p:nvSpPr>
        <p:spPr>
          <a:xfrm>
            <a:off x="247680" y="1828800"/>
            <a:ext cx="9664560" cy="54864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Video Doodling</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Comment Moderatio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Embedding a VoiceThrea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The Doodler</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VoiceThread Presentation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